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A928-87CC-4DD6-8A96-3F455C5A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B698-9C23-4779-A4E3-24FA9C41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AFEB-32FD-458D-A311-1649AB26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B18C-6A02-46DA-9A9D-AD16BD5E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6E81-D082-44E9-90E9-CCECCC45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5D9A-BE9B-48EF-BA0E-A2D8F004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102E-39F7-4027-A08C-6241D662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5832-A2C3-4C31-8A6E-0304F9E1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0A7C-F176-4A30-BB82-022D7299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E8DB-3B48-474D-A6B1-8ED81FE8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C7E7-F55D-40CF-8787-FB3B7516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222C8-BFC9-49B6-9AF6-E6BC5EF5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3705-6EAC-4667-A52F-784CA530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D485-9934-474F-856F-74AD6683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5444-0858-472D-B32B-C6FD0FC5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D7F7-E2C9-49DD-A479-A1305368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A70B-6A74-4CE0-BA62-4A974E9B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D028A-ABD1-4326-9708-B29893FB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3FF2-4A0C-4386-B053-8BFF2E06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B2DD3-9899-4DF9-BB14-84BBBD08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85DA2-8BED-4A74-9A3C-70D6054B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5F7F7-081E-42FD-A44B-59647C95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441B4-2AFC-4C58-A48A-8E15EB40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648A-6462-4A26-9805-023C3499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FADD-4EAC-4079-8E0C-D8578C43B01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2691-7BFC-42A8-A558-797E349ADEF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86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5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18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Тоз, кой на Госпо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дечно се наде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то Сионската гор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поклатим ще е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791360"/>
            <a:ext cx="957744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 . И както святий град 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кръжен с гор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й окръжава с благода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верните Сво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316880"/>
            <a:ext cx="95774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Макар като Отец 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аказва Т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ак милостив е - до конец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пази гнева Св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91360"/>
            <a:ext cx="957744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Помилуй, Боже наш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з Твои преда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иято вяра и любо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 Теб са искрен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12-25T08:36:37Z</dcterms:modified>
  <cp:revision>89</cp:revision>
  <dc:subject/>
  <dc:title>Slide 1</dc:title>
</cp:coreProperties>
</file>